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4D6-3FAA-4C87-BA0F-E3675DDD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C0E-5B1A-4716-AFCE-3649A554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731-97C4-4E0B-9B67-4DBEDE52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EE9-6286-4E02-B948-6FC436D2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8A00-ED8A-454A-815B-977F80F2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0F8A-7FB5-41A5-BCD3-9C6A1A04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DFE8-7AB6-4D0D-97C0-7A0286A7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7CC9-C519-4805-B8D8-3238E8C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9DB3-714E-4707-ADD4-B6FA0335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C358-AF7A-4585-8A9D-4FDC0759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E099-1F49-42F0-83AB-3FCDEC8C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647-C44E-4E00-AC4F-8CB63C35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1DF2-3B92-4162-AAB5-48FB5C83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AA15-0554-41B6-9BBD-F8829011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2E35-C75C-4EB7-9676-3DB1FAC1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23F6-8D9A-4CAC-9EF0-605AA131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0F4B-08AF-41A8-8ED4-02BA6804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C30-B0F5-4529-9C19-178C561B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F78-1F33-4CE6-AA1C-385F6A65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E68-F77E-47E5-A528-9CC499EC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A3D-CB4A-4825-9651-07B2A2E9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F35-B70E-4579-A6F0-66A94F3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3D8-A4DA-4FDA-813D-0ED9570E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E71-9822-4875-BC10-0BF49C9A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A51A-838E-47C4-B2F2-6AAFEDE3489B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0CD7-A699-448A-ADC1-BBB6730F92D5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67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hreya Raw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38088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30492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basic rules about desig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ts of a well designed spreadshee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ign the spreadsheet on paper firs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st and edit your calcul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ep the components of a calculation visibl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 aware of the "space" or "geography" of the spreadshee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1) Introduction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is spreadsheet or workbook about. Note the title, purpose, author, creation and revision dates etc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odel and Assumption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stify any models, summary statistics, or calculated variables you are using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ata Dictionar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 every variable in the spreadsheet note 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ocati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cell rang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ta Clas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it is (Raw Data, Statistical Summary, Calculated Variable, Score etc.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ta Typ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e.g. Integer, Text, Currency, Date, etc.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escripti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a description of the data or what it's '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urpos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' is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4) Raw Dat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sent your raw data in tabular form, with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lumns representing variabl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ows representing cas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5) Calculated Data: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mmary Statistics: Usually Summary statistics result from calculations across rows for a single colum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ived variables are often based on calculations across columns for a row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6) Present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Reporting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hasize the final information you wish to show without excessive background detail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charts wherever appropriate to summarize large volumes of dat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reya Rawal</cp:lastModifiedBy>
  <dcterms:modified xsi:type="dcterms:W3CDTF">2009-01-28T17:2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